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0FB7-7150-4A84-A1D9-27A39943A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76B0-5AF8-4742-8B35-C8EC1E9F1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A311-4A91-41D1-B6C7-46442F277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6A5C-42AE-402B-BED0-0803FC77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BBD3-ED45-467D-94B1-830E15C4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D302-5229-40C9-A866-BDF8F447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2999-C470-428A-AE89-4BD2C6E5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FC3E-9914-4A27-82C9-B5F1AA7FF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371C-0003-46AA-A4FA-66D14554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D6F1-964A-42E7-AB3C-B244EDA2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481B-72D4-4763-A223-A874C3A4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F174-80A3-44F5-802E-786E41E9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6864-A93F-4A55-90D0-069BC8FA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C66A-09C9-46AB-ACB2-34AF53F5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C8ED-01DC-479C-B1DB-233594DE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2DDE-FBBE-4F4B-890A-A67F8330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8E6E-22BC-418A-82A6-88B0BBB0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AECD-FE45-4635-A604-1D1E4D5E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9B3A-F6CD-4C50-9C6D-CF7E870D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0CB2-BA34-4DF3-B771-473F37B5D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80F-6BE1-472C-BE54-13B2B78A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FB53-803A-427E-BB28-680CE978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F86B-EBF3-4787-BB01-FFA6B3A0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E970-6871-4050-94B8-C557BB6C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DAF2-CFE5-4F3C-A0C8-D16DEA19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67C3-8517-4BAD-9352-DEEE9710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F641-CF4C-4658-A8F7-45AB1C37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1E9A-C039-46B5-ABF9-DA869D7E8F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310C-97B8-4831-9077-EE64F94C9C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1143000"/>
            <a:ext cx="77151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ИСТРАЖИВАЊА У СИСТЕМУ ЗДРАВСТВЕНЕ ЗАШТИТ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према и планирање научног истраживања. Постављање циљева и хипотеза. Дефинисање зависних и независних варијабли. Дизајн студије. Узорковање. Евалуација клиничког исх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330033"/>
                </a:solidFill>
                <a:latin typeface="Times New Roman"/>
              </a:rPr>
              <a:t>Дизајнирање истраживањ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псервационе студије могу би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дескриптивне (описне)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утврђују дистрибуцију одређених карактеристика популациј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аналитичк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испитују повезаност узрока и последиц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Протокол клиничког испитивањ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иљеви и хипоте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теријуми за селекцију испита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ема рандомиз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ис процед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ис начина примене испитиваних средст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оде за прикупљање и анализу подат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Особине узор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презентатив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рљ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вољне велич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мерен ка циљу истражи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твар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кономич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Одређивање испитаника у истраживању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26920" y="1699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во треба дефинисати критеријуме који дефинишу циљну популац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тим одредити који је минимални број испитаника у нашем узорку, а да узорак и даље буде репрезентатив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ко ћемо регрутовати испитанике? Да ли ће нам бити доступни? Да ли ће хтети да учествују у студиј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330033"/>
                </a:solidFill>
                <a:latin typeface="Times New Roman"/>
              </a:rPr>
              <a:t>Врсте узорак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4000" y="1600200"/>
            <a:ext cx="8064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Згодни” узор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о су испитаници који задовољавају критеријуме за избор, а лако су доступни истраживач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један за другим (узастопно) се укључују сви испитаници који су доступни истраживач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Узастопни узорак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је пожељан када обухвата целу доступну популацију, кроз временски период који је довољно ду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330033"/>
                </a:solidFill>
                <a:latin typeface="Times New Roman"/>
              </a:rPr>
              <a:t>Врсте узорак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11280" y="1600200"/>
            <a:ext cx="8208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лучајни узорак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– је златни стандард за обезбеђење могућности генерализације закључака. У случајном узорку свака јединка популације има подједнаку шансу да буде изабр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Одређивање величине узор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33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број испита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33"/>
                </a:solidFill>
                <a:latin typeface="Times New Roman"/>
              </a:rPr>
              <a:t>S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стандардна гре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33"/>
                </a:solidFill>
                <a:latin typeface="Times New Roman"/>
              </a:rPr>
              <a:t>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стандардна девијациј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на основу претходне студ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6"/>
              <p:cNvSpPr txBox="1"/>
              <p:nvPr/>
            </p:nvSpPr>
            <p:spPr>
              <a:xfrm>
                <a:off x="5076720" y="2349360"/>
                <a:ext cx="352764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/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Одређивање величине узор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33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RS" sz="2800" spc="-1" strike="noStrike">
                <a:solidFill>
                  <a:srgbClr val="660033"/>
                </a:solidFill>
                <a:latin typeface="Times New Roman"/>
              </a:rPr>
              <a:t>број испита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33"/>
                </a:solidFill>
                <a:latin typeface="Times New Roman"/>
              </a:rPr>
              <a:t>S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RS" sz="2800" spc="-1" strike="noStrike">
                <a:solidFill>
                  <a:srgbClr val="660033"/>
                </a:solidFill>
                <a:latin typeface="Times New Roman"/>
              </a:rPr>
              <a:t>стандардна грешк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бира се на основу резултата претходних студ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33"/>
                </a:solidFill>
                <a:latin typeface="Times New Roman"/>
              </a:rPr>
              <a:t>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RS" sz="2800" spc="-1" strike="noStrike">
                <a:solidFill>
                  <a:srgbClr val="660033"/>
                </a:solidFill>
                <a:latin typeface="Times New Roman"/>
              </a:rPr>
              <a:t>стандардна девија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позната на основу претходне студије или се добија из пилот студије од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30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испитани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000000"/>
                </a:solidFill>
                <a:latin typeface="Times New Roman"/>
              </a:rPr>
              <a:t>n=s</a:t>
            </a:r>
            <a:r>
              <a:rPr b="0" lang="sr-Latn-C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5400" spc="-1" strike="noStrike">
                <a:solidFill>
                  <a:srgbClr val="000000"/>
                </a:solidFill>
                <a:latin typeface="Times New Roman"/>
              </a:rPr>
              <a:t>/SE</a:t>
            </a:r>
            <a:r>
              <a:rPr b="0" lang="sr-Latn-C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Одређивање величине узор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14400" y="2133360"/>
            <a:ext cx="77724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офтверска апликација: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G* Power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а основу података из претходно извршених истраживањ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Рандомизациј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рставање испитаника методом случајног из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иљ рандомизације: елиминисање узорачке пристрас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Excell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опција: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</a:rPr>
              <a:t>randbetw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Разлике између клиничког истраживања и клиничке праксе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4869000" y="2563920"/>
            <a:ext cx="3060720" cy="3243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rcRect l="0" t="0" r="11190" b="11544"/>
          <a:stretch/>
        </p:blipFill>
        <p:spPr>
          <a:xfrm>
            <a:off x="1488960" y="2567160"/>
            <a:ext cx="27561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Одобрење Етичког комите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зложење студ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каз методолог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ипотеза и очекивани резулт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ормација за испитанике и информисани пристан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30033"/>
                </a:solidFill>
                <a:latin typeface="Times New Roman"/>
              </a:rPr>
              <a:t>Извођење студије и скупљање података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33"/>
                </a:solidFill>
                <a:latin typeface="Times New Roman"/>
              </a:rPr>
              <a:t>Дизајн студије детерминише временски период за прикупљање подат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Анализирање подата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33"/>
                </a:solidFill>
                <a:latin typeface="Times New Roman"/>
              </a:rPr>
              <a:t>Статистичка обрада и приказ добијених резул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33"/>
                </a:solidFill>
                <a:latin typeface="Times New Roman"/>
              </a:rPr>
              <a:t>Резултати се представљају табеларно и графи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800" spc="-1" strike="noStrike">
                <a:solidFill>
                  <a:srgbClr val="330033"/>
                </a:solidFill>
                <a:latin typeface="Times New Roman"/>
              </a:rPr>
              <a:t>Поређење група у истраживању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контролна гру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imes New Roman"/>
              </a:rPr>
              <a:t>пре експеримента (К1) 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imes New Roman"/>
              </a:rPr>
              <a:t>после експеримента (К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експериментална груп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imes New Roman"/>
              </a:rPr>
              <a:t>пре експеримента (Е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imes New Roman"/>
              </a:rPr>
              <a:t>после експеримента (Е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800" spc="-1" strike="noStrike">
                <a:solidFill>
                  <a:srgbClr val="330033"/>
                </a:solidFill>
                <a:latin typeface="Times New Roman"/>
              </a:rPr>
              <a:t>Поређење група у истраживању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ма значајних разлика између К1 и К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оје значајне разлике између Е1 и Е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тоје значајне разлике између Е2 и К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Публиковање резулта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33"/>
                </a:solidFill>
                <a:latin typeface="Times New Roman"/>
              </a:rPr>
              <a:t>У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33"/>
                </a:solidFill>
                <a:latin typeface="Times New Roman"/>
              </a:rPr>
              <a:t>Методолог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33"/>
                </a:solidFill>
                <a:latin typeface="Times New Roman"/>
              </a:rPr>
              <a:t>Резулт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33"/>
                </a:solidFill>
                <a:latin typeface="Times New Roman"/>
              </a:rPr>
              <a:t>Дискус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Ефикасност у научном истраживању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спех у научном истраживању зависи од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владавања методолошким аспектима истраживањ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знавања области истраживања (на пример: физиологије, патофизиологије, фармакологије, дијагностике... ендокриног систем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800" spc="-1" strike="noStrike">
                <a:solidFill>
                  <a:srgbClr val="330033"/>
                </a:solidFill>
                <a:latin typeface="Times New Roman"/>
              </a:rPr>
              <a:t>Шта је научно истраживање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915920"/>
            <a:ext cx="61009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660033"/>
                </a:solidFill>
                <a:latin typeface="Times New Roman"/>
              </a:rPr>
              <a:t>Процес тражења који ј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660033"/>
                </a:solidFill>
                <a:latin typeface="Times New Roman"/>
              </a:rPr>
              <a:t>Систематич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660033"/>
                </a:solidFill>
                <a:latin typeface="Times New Roman"/>
              </a:rPr>
              <a:t>описује фено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660033"/>
                </a:solidFill>
                <a:latin typeface="Times New Roman"/>
              </a:rPr>
              <a:t>даје објашњења/ теор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660033"/>
                </a:solidFill>
                <a:latin typeface="Times New Roman"/>
              </a:rPr>
              <a:t>тестира хипоте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330033"/>
                </a:solidFill>
                <a:latin typeface="Times New Roman"/>
              </a:rPr>
              <a:t>Кораци у спровођењу истраж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921040" y="1778040"/>
            <a:ext cx="56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33"/>
                </a:solidFill>
                <a:latin typeface="Times New Roman"/>
              </a:rPr>
              <a:t>Постављање истраживачког пи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367960" y="3213000"/>
            <a:ext cx="33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33"/>
                </a:solidFill>
                <a:latin typeface="Times New Roman"/>
              </a:rPr>
              <a:t>Дизајнирање студ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640120" y="4749840"/>
            <a:ext cx="32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33"/>
                </a:solidFill>
                <a:latin typeface="Times New Roman"/>
              </a:rPr>
              <a:t>Спровођење студ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195920" y="4797360"/>
            <a:ext cx="29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33"/>
                </a:solidFill>
                <a:latin typeface="Times New Roman"/>
              </a:rPr>
              <a:t>Анализа резулт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854280" y="314964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60033"/>
                </a:solidFill>
                <a:latin typeface="Times New Roman"/>
              </a:rPr>
              <a:t>Извођење закључ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H="1" flipV="1">
            <a:off x="5867280" y="2362320"/>
            <a:ext cx="990720" cy="7617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 flipV="1">
            <a:off x="6553080" y="3809880"/>
            <a:ext cx="533520" cy="990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4267080" y="502920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2209680" y="3733920"/>
            <a:ext cx="685800" cy="99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2209320" y="2362320"/>
            <a:ext cx="114300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Фазе научног истраживањ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ак 1. Избор и формулисање истраживачког питања (наслов ра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ак 2. Планирање истраживања (дизајнирање студ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ак 3. Извођење студије и скупљање подат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ак 4. Анализа података (статистичка обрада и приказ добијених резулта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ак 5. Извођење закључака (могуће формулисање нових истраживачких питањ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ак 6. Публиковање резулт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200" spc="-1" strike="noStrike">
                <a:solidFill>
                  <a:srgbClr val="330033"/>
                </a:solidFill>
                <a:latin typeface="Times New Roman"/>
              </a:rPr>
              <a:t>Избор истраживачког питањ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06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вање литера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авање литера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радња са мен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траживачко питање је циљ студије, нејасност коју истраживач жели да разреши мерењима на својим испитаниц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Елементи истраживачког питања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33"/>
                </a:solidFill>
                <a:latin typeface="Arial"/>
              </a:rPr>
              <a:t>ПОПУЛ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33"/>
                </a:solidFill>
                <a:latin typeface="Arial"/>
              </a:rPr>
              <a:t>УЗРОК (НЕЗАВИСНА ВАРИЈАБЛ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33"/>
                </a:solidFill>
                <a:latin typeface="Arial"/>
              </a:rPr>
              <a:t>ИСХОД (ЗАВИСНА ВАРИЈАБЛ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611280" y="333360"/>
            <a:ext cx="7923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800" spc="-1" strike="noStrike">
                <a:solidFill>
                  <a:srgbClr val="330033"/>
                </a:solidFill>
                <a:latin typeface="Times New Roman"/>
              </a:rPr>
              <a:t>Finer- </a:t>
            </a:r>
            <a:r>
              <a:rPr b="0" lang="sr-RS" sz="3800" spc="-1" strike="noStrike">
                <a:solidFill>
                  <a:srgbClr val="330033"/>
                </a:solidFill>
                <a:latin typeface="Times New Roman"/>
              </a:rPr>
              <a:t>Концепт истраживањ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39640" y="2057400"/>
            <a:ext cx="763272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bl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водљиво:довољан број испитаника, техничка подршка, буџет, мали об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eresting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RS" sz="2800" spc="-1" strike="noStrike">
                <a:solidFill>
                  <a:srgbClr val="660033"/>
                </a:solidFill>
                <a:latin typeface="Times New Roman"/>
              </a:rPr>
              <a:t>Интересант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за истраживача и стручну јав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RS" sz="2800" spc="-1" strike="noStrike">
                <a:solidFill>
                  <a:srgbClr val="660033"/>
                </a:solidFill>
                <a:latin typeface="Times New Roman"/>
              </a:rPr>
              <a:t>Нов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нуди нову информаци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ca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RS" sz="2800" spc="-1" strike="noStrike">
                <a:solidFill>
                  <a:srgbClr val="660033"/>
                </a:solidFill>
                <a:latin typeface="Times New Roman"/>
              </a:rPr>
              <a:t>Етич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поштује етичке принцип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va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RS" sz="2800" spc="-1" strike="noStrike">
                <a:solidFill>
                  <a:srgbClr val="660033"/>
                </a:solidFill>
                <a:latin typeface="Times New Roman"/>
              </a:rPr>
              <a:t>Релеват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</a:rPr>
              <a:t> може се имплементирати у рутинском рад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330033"/>
                </a:solidFill>
                <a:latin typeface="Times New Roman"/>
              </a:rPr>
              <a:t>Дизајнирање истраживањ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Опсервационе студ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хорт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група се прати одређено вр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тудије пресе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група се испита у једном трену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тудије “случај-контрола”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две групе, разликују се по исх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ксперименталне студ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ндомизирана, двоструко слепа клиничка студ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две групе се формирају случајним избором, а интервенција остаје скривена од испитивача и пацијената до краја студије (двоструко слепа студ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8:57:24Z</dcterms:created>
  <dc:creator>User</dc:creator>
  <dc:description/>
  <dc:language>en-US</dc:language>
  <cp:lastModifiedBy>User</cp:lastModifiedBy>
  <dcterms:modified xsi:type="dcterms:W3CDTF">2019-02-09T22:36:59Z</dcterms:modified>
  <cp:revision>32</cp:revision>
  <dc:subject/>
  <dc:title>Eksperimentalni i klinički aspekti fiziologije i patofiziologije pluća</dc:title>
</cp:coreProperties>
</file>